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901-C29B-42B1-A9F7-684D48FA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EC8-4F1A-438D-B921-02D4E56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5B9-F5EB-41F4-B1F2-95922CFA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842-E88D-4A0B-B966-8532B88B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B73-A324-46E2-AAA4-991DAF33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37A-7C75-4EA0-AF20-583FEF6B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939-3F76-4921-B3CA-F290C0C1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383-A407-4B80-99FD-2200CEF4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32C-B236-49E3-8C65-5DDC05A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399-34CA-40D4-A541-9D413E1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D31-FA70-477F-8F9A-EFCA21E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113-8E3C-4634-B909-984DDB25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6347-4F4F-49A9-9E6A-60D8AB586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015360" y="19828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back-arrow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48" name="Chapter 09A.mpg" descr=""/>
          <p:cNvPicPr/>
          <p:nvPr/>
        </p:nvPicPr>
        <p:blipFill>
          <a:blip r:embed="rId4"/>
          <a:stretch/>
        </p:blipFill>
        <p:spPr>
          <a:xfrm>
            <a:off x="684360" y="533520"/>
            <a:ext cx="7926120" cy="5943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0880" y="380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ic acid is broken down into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eries of energy-extracting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F:\392\other392\Biology 392\Unit 5 - Chapter 8, 9, 23\krebs cycle.jpg"/>
          <p:cNvPicPr/>
          <p:nvPr/>
        </p:nvPicPr>
        <p:blipFill>
          <a:blip r:embed="rId1"/>
          <a:stretch/>
        </p:blipFill>
        <p:spPr>
          <a:xfrm>
            <a:off x="380880" y="1447920"/>
            <a:ext cx="8274240" cy="5410080"/>
          </a:xfrm>
          <a:prstGeom prst="rect">
            <a:avLst/>
          </a:prstGeom>
          <a:ln w="0">
            <a:noFill/>
          </a:ln>
        </p:spPr>
      </p:pic>
      <p:sp>
        <p:nvSpPr>
          <p:cNvPr id="76" name="Title 1"/>
          <p:cNvSpPr/>
          <p:nvPr/>
        </p:nvSpPr>
        <p:spPr>
          <a:xfrm rot="1777200">
            <a:off x="5784840" y="1984320"/>
            <a:ext cx="3338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of 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 Pyruvic acid (3C from glycolysis) ent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chondrion – across 2 membran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3C (pyruvic acid) splits: 1 C bec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s released.  The remai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 combine with coenzyme 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cetyl group (2C) combines with 4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 (already in mitochondrion)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citric acid (6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Coenzyme 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cetyl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after glyc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between glycolysis and the cycle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krebs"/>
          <p:cNvPicPr/>
          <p:nvPr/>
        </p:nvPicPr>
        <p:blipFill>
          <a:blip r:embed="rId1"/>
          <a:stretch/>
        </p:blipFill>
        <p:spPr>
          <a:xfrm>
            <a:off x="3505320" y="1066680"/>
            <a:ext cx="5410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. Citric acid (6C) loses 1carbon as 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kes a 5-C molecule and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5-C loses another carbon as 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kes a 4-C molecule, NADH and ATP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is 4-C molecule rearranges again &amp; again, giving off Hydrogens as F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io_ch9_4760"/>
          <p:cNvPicPr/>
          <p:nvPr/>
        </p:nvPicPr>
        <p:blipFill>
          <a:blip r:embed="rId1"/>
          <a:stretch/>
        </p:blipFill>
        <p:spPr>
          <a:xfrm>
            <a:off x="304920" y="1905120"/>
            <a:ext cx="5621040" cy="4268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38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6002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continue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4C molecule combines with acetyl CoA to start cy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goes around once per molecule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t goes around twice per molecule of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io_ch9_4760"/>
          <p:cNvPicPr/>
          <p:nvPr/>
        </p:nvPicPr>
        <p:blipFill>
          <a:blip r:embed="rId1"/>
          <a:stretch/>
        </p:blipFill>
        <p:spPr>
          <a:xfrm>
            <a:off x="304920" y="1905120"/>
            <a:ext cx="5621040" cy="4268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s Cycle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838080"/>
            <a:ext cx="5410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343040" y="380520"/>
            <a:ext cx="4343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 turns of cyc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s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AD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pair of 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eft Brace 5"/>
          <p:cNvSpPr/>
          <p:nvPr/>
        </p:nvSpPr>
        <p:spPr>
          <a:xfrm>
            <a:off x="6629400" y="350532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914400"/>
              <a:gd name="textAreaBottom" fmla="*/ 9025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013560" y="1982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 Cycle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01" name="Chapter 09C.mpg" descr=""/>
          <p:cNvPicPr/>
          <p:nvPr/>
        </p:nvPicPr>
        <p:blipFill>
          <a:blip r:embed="rId4"/>
          <a:stretch/>
        </p:blipFill>
        <p:spPr>
          <a:xfrm>
            <a:off x="582480" y="457200"/>
            <a:ext cx="7723440" cy="579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13560" y="19828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 Cycle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09" name="Chapter 09D.mpg" descr=""/>
          <p:cNvPicPr/>
          <p:nvPr/>
        </p:nvPicPr>
        <p:blipFill>
          <a:blip r:embed="rId4"/>
          <a:stretch/>
        </p:blipFill>
        <p:spPr>
          <a:xfrm>
            <a:off x="582480" y="457200"/>
            <a:ext cx="7799400" cy="584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2" descr="bio_ch9_4761"/>
          <p:cNvPicPr/>
          <p:nvPr/>
        </p:nvPicPr>
        <p:blipFill>
          <a:blip r:embed="rId1"/>
          <a:stretch/>
        </p:blipFill>
        <p:spPr>
          <a:xfrm>
            <a:off x="1386000" y="1792440"/>
            <a:ext cx="6406920" cy="44240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31840"/>
            <a:ext cx="85629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33400" y="175896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44840" y="2017800"/>
            <a:ext cx="2197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 Ion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19680" y="566748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P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7147080" y="3397320"/>
            <a:ext cx="168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803920" y="2195640"/>
            <a:ext cx="13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80880" y="4419720"/>
            <a:ext cx="1571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04920" y="556272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380880" y="2666880"/>
            <a:ext cx="1752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membra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4" descr=""/>
          <p:cNvPicPr/>
          <p:nvPr/>
        </p:nvPicPr>
        <p:blipFill>
          <a:blip r:embed="rId2"/>
          <a:stretch/>
        </p:blipFill>
        <p:spPr>
          <a:xfrm>
            <a:off x="7304040" y="1314360"/>
            <a:ext cx="1644840" cy="1158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6"/>
          <p:cNvSpPr/>
          <p:nvPr/>
        </p:nvSpPr>
        <p:spPr>
          <a:xfrm>
            <a:off x="7121520" y="2206800"/>
            <a:ext cx="26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mitochondria"/>
          <p:cNvPicPr/>
          <p:nvPr/>
        </p:nvPicPr>
        <p:blipFill>
          <a:blip r:embed="rId1"/>
          <a:stretch/>
        </p:blipFill>
        <p:spPr>
          <a:xfrm>
            <a:off x="152280" y="5486400"/>
            <a:ext cx="1752840" cy="1241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energy electrons from the Krebs cycle (carried by NADH and FADH2) are used to convert ADP t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-energy electrons are passed along a series of proteins embedded in the inner membrane of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have organelles, so this process occurs directly in the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13920" y="19828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56" name="Chapter 09B.mpg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7848720" cy="588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ADH and FADH2 from Krebs cycle (in matrix) transfer high energy e- to proteins of membr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 are passed from one protein to the next in the chain.  For each pair of e-, H+ ions are pumped out of matrix, across membrane, into intermembrane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e- get to the end, an enzyme joins them with H+ ions and 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y it’s aerobic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for the chain to work, there must be a molecule at the end to accept the electr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is this final electron acceptor.  The electrons combine with free hydrogens to form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2" descr="bio_ch9_4761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H+ that were pumped into intermembrane space begin building up, creating a positi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kewise, the matrix is negative n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is high concentration of positive charge wants to even out.  The H+ ions will diffuse back across the inner membrane, through ATP synthet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As H+ move through the ATP synthetase protein, it spins, combining ADP and P to form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:\392\other392\Biology 392\Unit 5 - Chapter 8, 9, 23\electron transport chain.jpg"/>
          <p:cNvPicPr/>
          <p:nvPr/>
        </p:nvPicPr>
        <p:blipFill>
          <a:blip r:embed="rId1"/>
          <a:stretch/>
        </p:blipFill>
        <p:spPr>
          <a:xfrm>
            <a:off x="990720" y="627120"/>
            <a:ext cx="76197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014640" y="19828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Transport Chain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41" name="Chapter 09E.mpg" descr=""/>
          <p:cNvPicPr/>
          <p:nvPr/>
        </p:nvPicPr>
        <p:blipFill>
          <a:blip r:embed="rId4"/>
          <a:stretch/>
        </p:blipFill>
        <p:spPr>
          <a:xfrm>
            <a:off x="480960" y="380880"/>
            <a:ext cx="812952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014640" y="19828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Transport Chain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forward arrow"/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Chapter 09F.mpg" descr=""/>
          <p:cNvPicPr/>
          <p:nvPr/>
        </p:nvPicPr>
        <p:blipFill>
          <a:blip r:embed="rId4"/>
          <a:stretch/>
        </p:blipFill>
        <p:spPr>
          <a:xfrm>
            <a:off x="609480" y="762120"/>
            <a:ext cx="8102880" cy="5790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verage: each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pair of e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ng the ETC provides enough energy to conv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3 ADP to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Baveuse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1 NADH </a:t>
            </a:r>
            <a:r>
              <a:rPr b="1" lang="en-US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1 FADH2 </a:t>
            </a:r>
            <a:r>
              <a:rPr b="1" lang="en-US" sz="32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b050"/>
                </a:solidFill>
                <a:latin typeface="바탕"/>
                <a:ea typeface="바탕"/>
              </a:rPr>
              <a:t> 2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tals will depend on whether you’re talking about 1 turn of the Krebs cycle or 2 turns: 1 pyruvic acid or 2 pyruvic acid (1 gluc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A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llular respiration includes 3 steps: glycolysis, Kreb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Glucose molec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TP from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 ATP from Krebs/E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8X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ATP 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8% of total original energy in a glucose molecule.  62% is lost as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you get warmer 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ing S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es of ATP already in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ough for a few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ctic acid fer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ough for ~90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ds up lactic acid &amp; oxygen deb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ular respiration (Krebs &amp;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ong-term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low release as glycogen stores are broken down (15-20 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fter 20 min, body starts breaking down other stores (like f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7" dur="2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625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forms use aerobic? anaerob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-lif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athon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eter d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ing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34340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, slow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a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cer (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ketball (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stores, us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-li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eter d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2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50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io_ch9_4759"/>
          <p:cNvPicPr/>
          <p:nvPr/>
        </p:nvPicPr>
        <p:blipFill>
          <a:blip r:embed="rId1"/>
          <a:stretch/>
        </p:blipFill>
        <p:spPr>
          <a:xfrm>
            <a:off x="2286000" y="838080"/>
            <a:ext cx="6200640" cy="41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pyrus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53337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http://www.mitochondria.us/pages/mitoman.jpg"/>
          <p:cNvPicPr/>
          <p:nvPr/>
        </p:nvPicPr>
        <p:blipFill>
          <a:blip r:embed="rId2"/>
          <a:stretch/>
        </p:blipFill>
        <p:spPr>
          <a:xfrm>
            <a:off x="380880" y="1219320"/>
            <a:ext cx="1716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ky par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ligh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do both proces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have chloroplasts &amp;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chloroplast"/>
          <p:cNvPicPr/>
          <p:nvPr/>
        </p:nvPicPr>
        <p:blipFill>
          <a:blip r:embed="rId1"/>
          <a:stretch/>
        </p:blipFill>
        <p:spPr>
          <a:xfrm>
            <a:off x="4952880" y="4114800"/>
            <a:ext cx="376884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mitochondria"/>
          <p:cNvPicPr/>
          <p:nvPr/>
        </p:nvPicPr>
        <p:blipFill>
          <a:blip r:embed="rId2"/>
          <a:stretch/>
        </p:blipFill>
        <p:spPr>
          <a:xfrm>
            <a:off x="914400" y="411480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 vs. Energ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295280"/>
          <a:ext cx="8153280" cy="5257800"/>
        </p:xfrm>
        <a:graphic>
          <a:graphicData uri="http://schemas.openxmlformats.org/drawingml/2006/table">
            <a:tbl>
              <a:tblPr/>
              <a:tblGrid>
                <a:gridCol w="1207800"/>
                <a:gridCol w="3699000"/>
                <a:gridCol w="324648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ynth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i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pl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ochond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dioxide &amp;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&amp;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 &amp; 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dioxide &amp;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+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CO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6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Diagram 1" descr=""/>
          <p:cNvPicPr/>
          <p:nvPr/>
        </p:nvPicPr>
        <p:blipFill>
          <a:blip r:embed="rId1"/>
          <a:stretch/>
        </p:blipFill>
        <p:spPr>
          <a:xfrm>
            <a:off x="365040" y="682560"/>
            <a:ext cx="8382240" cy="55720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 rot="19149000">
            <a:off x="2062800" y="1295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 rot="2389800">
            <a:off x="1895040" y="4487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5"/>
          <p:cNvSpPr/>
          <p:nvPr/>
        </p:nvSpPr>
        <p:spPr>
          <a:xfrm rot="2814000">
            <a:off x="2541960" y="1915560"/>
            <a:ext cx="738000" cy="330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6"/>
          <p:cNvSpPr/>
          <p:nvPr/>
        </p:nvSpPr>
        <p:spPr>
          <a:xfrm rot="18575400">
            <a:off x="2517840" y="3951000"/>
            <a:ext cx="739800" cy="330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685800" y="609480"/>
          <a:ext cx="7924680" cy="481032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990720"/>
                <a:gridCol w="990360"/>
                <a:gridCol w="990720"/>
                <a:gridCol w="990720"/>
                <a:gridCol w="990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b’s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85800" y="762120"/>
          <a:ext cx="7924680" cy="4489200"/>
        </p:xfrm>
        <a:graphic>
          <a:graphicData uri="http://schemas.openxmlformats.org/drawingml/2006/table">
            <a:tbl>
              <a:tblPr/>
              <a:tblGrid>
                <a:gridCol w="1219320"/>
                <a:gridCol w="838080"/>
                <a:gridCol w="914400"/>
                <a:gridCol w="990720"/>
                <a:gridCol w="990360"/>
                <a:gridCol w="990720"/>
                <a:gridCol w="990720"/>
                <a:gridCol w="990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yc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b’s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72" name="TextBox 4"/>
          <p:cNvSpPr/>
          <p:nvPr/>
        </p:nvSpPr>
        <p:spPr>
          <a:xfrm>
            <a:off x="1846080" y="57913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number (Gross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I10-68-mitochondria"/>
          <p:cNvPicPr/>
          <p:nvPr/>
        </p:nvPicPr>
        <p:blipFill>
          <a:blip r:embed="rId1"/>
          <a:stretch/>
        </p:blipFill>
        <p:spPr>
          <a:xfrm>
            <a:off x="460440" y="0"/>
            <a:ext cx="868356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krebs"/>
          <p:cNvPicPr/>
          <p:nvPr/>
        </p:nvPicPr>
        <p:blipFill>
          <a:blip r:embed="rId1"/>
          <a:stretch/>
        </p:blipFill>
        <p:spPr>
          <a:xfrm>
            <a:off x="155520" y="46080"/>
            <a:ext cx="86076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 is the process of taking one molecule of glucose and breaking it down into 2 molecules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 are needed to start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 and 2 NADH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glycolysis is over, the presence of oxygen is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xplosion 1 6"/>
          <p:cNvSpPr/>
          <p:nvPr/>
        </p:nvSpPr>
        <p:spPr>
          <a:xfrm>
            <a:off x="6781680" y="228600"/>
            <a:ext cx="1676520" cy="1066680"/>
          </a:xfrm>
          <a:prstGeom prst="irregularSeal1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41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+ Ener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ATP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ATP + 2NADH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392\other392\Biology 392\Unit 5 - Chapter 8, 9, 23\Cellular Respiration.jpg"/>
          <p:cNvPicPr/>
          <p:nvPr/>
        </p:nvPicPr>
        <p:blipFill>
          <a:blip r:embed="rId1"/>
          <a:stretch/>
        </p:blipFill>
        <p:spPr>
          <a:xfrm>
            <a:off x="622440" y="851040"/>
            <a:ext cx="78991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ob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s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final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the energy from the original glucose is still present in the 2 pyruv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eps: Glycolysis, Krebs cycl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the mitochond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mitochondria"/>
          <p:cNvPicPr/>
          <p:nvPr/>
        </p:nvPicPr>
        <p:blipFill>
          <a:blip r:embed="rId1"/>
          <a:stretch/>
        </p:blipFill>
        <p:spPr>
          <a:xfrm>
            <a:off x="228600" y="2286000"/>
            <a:ext cx="419112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y folded inner membrane = cri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quid space inside =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Krebs cycle occu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TC proteins are in inn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+ ions are pumped 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atrix into inn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ran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H+ ions then diffuse 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into matrix through ATPsynt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:\392\other392\Biology 392\Unit 5 - Chapter 8, 9, 23\Cellular Respiration.jpg"/>
          <p:cNvPicPr/>
          <p:nvPr/>
        </p:nvPicPr>
        <p:blipFill>
          <a:blip r:embed="rId1"/>
          <a:stretch/>
        </p:blipFill>
        <p:spPr>
          <a:xfrm>
            <a:off x="622440" y="730080"/>
            <a:ext cx="78991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Preferred Customer</cp:lastModifiedBy>
  <dcterms:modified xsi:type="dcterms:W3CDTF">2010-03-14T18:36:19Z</dcterms:modified>
  <cp:revision>123</cp:revision>
  <dc:subject/>
  <dc:title>Cell resp</dc:title>
</cp:coreProperties>
</file>